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F316-94E4-4FF9-86E2-D6F7E5062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3130-9992-4A77-8A45-9FD280D4F26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90A2-82B9-4267-9D2D-0BF972161A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4AD-6E2A-4EF3-BB54-CB476EC7AE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30B1-E44E-41B3-AE24-A90C0A3D816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F63-93FF-4DBB-9876-EF83FB7D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8E1-24A8-4CCA-B5AE-5DA2CCBE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04B5-E25B-4A1F-AC90-8F1B0CBD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2A5-7589-4D52-9B80-DC2D9675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6130-E1B3-4362-B8F9-625DEFD7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DAA0-C0A0-4595-AEF6-C67D5B91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432F-AD48-4A38-907A-55FC9CE9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01F-8BE8-4926-A8E3-79D3C131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D150-2B71-44CF-BB13-664449E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B85F-5D17-4468-A2E5-89D96E0CC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361E-BD3F-4C76-9334-8FC43084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8D9-4A3C-40D3-879E-2D75D717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3CE1-EC2F-48A1-AEE6-CE5772F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FA0B-E9FA-43C2-871A-A6B1C88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939-A5F4-4CE9-9D12-7D54F0F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7E74-9C88-47ED-B9AF-B0E5A7B64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B7BD-9005-41D4-B984-44F8720BE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984A-6608-48C6-9B14-F4080597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E7F-907F-4BFE-8C11-28D55F82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5E9-F185-421B-A8BC-4EF5954E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AA4-CDA0-44CF-B2F1-7D247C19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AC34-C5A6-4A7E-A6B7-543C36AF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1D8-4165-485C-893C-A3F68C21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CB7A-E51F-4CDB-8873-C3D47BB0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4336-A6EA-404E-A756-AE7EDED61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EBA8-47BD-495A-9C08-25B38F3EC4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uth America (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uth America (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ncient Geograph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teresting Fac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urrent Even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two big industries in Argentina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1066680" y="43434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arming and ran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14400" y="4876920"/>
            <a:ext cx="60199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914400" y="434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uth America (2)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9" name="Picture 11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838080" y="495288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– Colombia   B – Venezuela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– Ecuador      D - Pe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Picture 12" descr=""/>
          <p:cNvPicPr/>
          <p:nvPr/>
        </p:nvPicPr>
        <p:blipFill>
          <a:blip r:embed="rId2"/>
          <a:stretch/>
        </p:blipFill>
        <p:spPr>
          <a:xfrm>
            <a:off x="1066680" y="2057400"/>
            <a:ext cx="4953240" cy="2819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3"/>
          <p:cNvSpPr/>
          <p:nvPr/>
        </p:nvSpPr>
        <p:spPr>
          <a:xfrm>
            <a:off x="244620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3051360" y="205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TextBox 16"/>
          <p:cNvSpPr/>
          <p:nvPr/>
        </p:nvSpPr>
        <p:spPr>
          <a:xfrm>
            <a:off x="122256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Straight Arrow Connector 18"/>
          <p:cNvCxnSpPr/>
          <p:nvPr/>
        </p:nvCxnSpPr>
        <p:spPr>
          <a:xfrm flipV="1">
            <a:off x="1599840" y="2590560"/>
            <a:ext cx="610200" cy="45792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TextBox 23"/>
          <p:cNvSpPr/>
          <p:nvPr/>
        </p:nvSpPr>
        <p:spPr>
          <a:xfrm>
            <a:off x="2362320" y="274320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4674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 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e or False.  Fort Bedford was built during the French and Indian W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600200" y="5029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-11520"/>
            <a:ext cx="72392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Como te llamas mean?  (Good morning; How are you; What is your na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295280" y="49528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your nam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iece of land did the Canadian government create for the Inuit’s?  (Manitoba, Ontario, Yukon, Nunavu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218" name="TextBox 8"/>
          <p:cNvSpPr/>
          <p:nvPr/>
        </p:nvSpPr>
        <p:spPr>
          <a:xfrm>
            <a:off x="1295280" y="4648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unav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ncient Geography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Buenas Noches mea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5"/>
          <p:cNvSpPr/>
          <p:nvPr/>
        </p:nvSpPr>
        <p:spPr>
          <a:xfrm>
            <a:off x="2209680" y="48006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ood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Ancient Geography 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1066680" y="51814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– Africa; B – Europe; C – Asia; D – Australia; E – North America; F – South Amer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12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6261120" cy="33908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7"/>
          <p:cNvSpPr/>
          <p:nvPr/>
        </p:nvSpPr>
        <p:spPr>
          <a:xfrm>
            <a:off x="176040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Box 8"/>
          <p:cNvSpPr/>
          <p:nvPr/>
        </p:nvSpPr>
        <p:spPr>
          <a:xfrm>
            <a:off x="152748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Box 9"/>
          <p:cNvSpPr/>
          <p:nvPr/>
        </p:nvSpPr>
        <p:spPr>
          <a:xfrm>
            <a:off x="2670480" y="2666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3584160" y="403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5489640" y="28195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Box 12"/>
          <p:cNvSpPr/>
          <p:nvPr/>
        </p:nvSpPr>
        <p:spPr>
          <a:xfrm>
            <a:off x="6098760" y="3886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op three cities in regards to population in the United States are ________, Los Angeles, and Chicag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66680" y="44956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New Y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at hemisphere is Argentina located?  (North or South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066680" y="48006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t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1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e are twice as many ________ in Australia as there ar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143000" y="46483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Kangaroo’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 (1)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Futbol is the most popular sport in Argenti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914040" y="1981080"/>
            <a:ext cx="7620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st the top four continent in regards to land size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Interesting Facts - $400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5"/>
          <p:cNvSpPr/>
          <p:nvPr/>
        </p:nvSpPr>
        <p:spPr>
          <a:xfrm>
            <a:off x="1523880" y="4419720"/>
            <a:ext cx="4191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sia, Africa, North America, South Ame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fastest production car in the world at 267 mph?  (McLaren F1; Lamborghini Diablo; Bugatti Veyron; Jaguar XJ220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295280" y="5105520"/>
            <a:ext cx="594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Bugatti Veyron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990720" y="89676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nteresting Facts- $500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3" name="Picture 6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what sports arena did a little boy die after he fell from the second level, causing many sports teams to evaluate safety in upper seating areas: Staples Center, RFK Stadiu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371600" y="48006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ples Stadiu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ay last week was one of the most active travel days of the yea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Wednesday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film that came out the weekend before Thanksgiving drew $61 million at the box office the first night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990720" y="43434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arry Po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weekend, while playing basketball, what government leader suffered a cut that required stitch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295280" y="48006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President Obama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urrent Events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astern European nation recently built the world’s largest statue of Jesus, standing 108 fee high? (Czech Republic; Poland; Turke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38080" y="49528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la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 (1)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apital city of Argentina and what is the national dance of Argentina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Buenos Aires/ Tango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1)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helped Venezuela achieve independence from Spain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on Boliv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5888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uth America (1) - 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ountain range towers over the western part of Argentina?  Name the official language and the religion that is practiced the most in Argent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es/ Spanish/ Roman Catholic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1) 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80880" y="5410080"/>
            <a:ext cx="7239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- Brazil   B  - Bolivia  C=  Paraguay   D – Urugu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- 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3429000" y="2209680"/>
            <a:ext cx="4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42296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74" name="TextBox 14"/>
          <p:cNvSpPr/>
          <p:nvPr/>
        </p:nvSpPr>
        <p:spPr>
          <a:xfrm>
            <a:off x="351288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2746800" y="3048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3200400" y="3352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3581280" y="4267080"/>
            <a:ext cx="2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8" name="Straight Arrow Connector 19"/>
          <p:cNvCxnSpPr>
            <a:stCxn id="177" idx="0"/>
          </p:cNvCxnSpPr>
          <p:nvPr/>
        </p:nvCxnSpPr>
        <p:spPr>
          <a:xfrm flipH="1" flipV="1">
            <a:off x="3428640" y="3962160"/>
            <a:ext cx="280080" cy="305280"/>
          </a:xfrm>
          <a:prstGeom prst="straightConnector1">
            <a:avLst/>
          </a:prstGeom>
          <a:ln w="1260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79" name="TextBox 26"/>
          <p:cNvSpPr/>
          <p:nvPr/>
        </p:nvSpPr>
        <p:spPr>
          <a:xfrm>
            <a:off x="282276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 The Absolute Location locates a place using a coordinate system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u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major cash crop in Colombia?  In which country would you find Machu Picchu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066680" y="38098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ffee;  Per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which country would you find the world’s highest waterfall and what is this waterfall call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1371600" y="3886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enezuela/ Angel Fa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914400" y="804960"/>
            <a:ext cx="77724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South America (2) – 3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1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00:38:57Z</dcterms:created>
  <dc:creator>Student</dc:creator>
  <dc:description/>
  <dc:language>en-US</dc:language>
  <cp:lastModifiedBy>Tom Otis</cp:lastModifiedBy>
  <dcterms:modified xsi:type="dcterms:W3CDTF">2010-12-03T01:42:45Z</dcterms:modified>
  <cp:revision>162</cp:revision>
  <dc:subject/>
  <dc:title>Jeopardy</dc:title>
</cp:coreProperties>
</file>